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742800" cy="9907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0"/>
            <a:ext cx="6742080" cy="9907560"/>
          </a:xfrm>
          <a:custGeom>
            <a:avLst/>
            <a:gdLst>
              <a:gd name="textAreaLeft" fmla="*/ 360 w 6742080"/>
              <a:gd name="textAreaRight" fmla="*/ 6741720 w 67420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41">
                <a:moveTo>
                  <a:pt x="5" y="0"/>
                </a:moveTo>
                <a:arcTo wR="5" hR="5" stAng="16200000" swAng="-5400000"/>
                <a:lnTo>
                  <a:pt x="0" y="31736"/>
                </a:lnTo>
                <a:arcTo wR="5" hR="5" stAng="10800000" swAng="-5400000"/>
                <a:lnTo>
                  <a:pt x="21595" y="3174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89200" y="9459720"/>
            <a:ext cx="290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/</a:t>
            </a:r>
            <a:fld id="{D5973A2B-0EAA-4CD2-88E3-603B525CCDA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1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ldImg"/>
          </p:nvPr>
        </p:nvSpPr>
        <p:spPr>
          <a:xfrm>
            <a:off x="895320" y="752400"/>
            <a:ext cx="4950000" cy="371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Click to move the slid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905040" y="762120"/>
            <a:ext cx="49780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body"/>
          </p:nvPr>
        </p:nvSpPr>
        <p:spPr>
          <a:xfrm>
            <a:off x="914400" y="4719240"/>
            <a:ext cx="4950000" cy="44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905040" y="762120"/>
            <a:ext cx="49780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body"/>
          </p:nvPr>
        </p:nvSpPr>
        <p:spPr>
          <a:xfrm>
            <a:off x="914400" y="4719240"/>
            <a:ext cx="4950000" cy="44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905040" y="762120"/>
            <a:ext cx="49780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body"/>
          </p:nvPr>
        </p:nvSpPr>
        <p:spPr>
          <a:xfrm>
            <a:off x="914400" y="4719240"/>
            <a:ext cx="4950000" cy="44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905040" y="762120"/>
            <a:ext cx="49780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body"/>
          </p:nvPr>
        </p:nvSpPr>
        <p:spPr>
          <a:xfrm>
            <a:off x="914400" y="4719240"/>
            <a:ext cx="4950000" cy="44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905040" y="762120"/>
            <a:ext cx="49780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body"/>
          </p:nvPr>
        </p:nvSpPr>
        <p:spPr>
          <a:xfrm>
            <a:off x="914400" y="4719240"/>
            <a:ext cx="4950000" cy="44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905040" y="762120"/>
            <a:ext cx="49780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body"/>
          </p:nvPr>
        </p:nvSpPr>
        <p:spPr>
          <a:xfrm>
            <a:off x="914400" y="4719240"/>
            <a:ext cx="4950000" cy="44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905040" y="762120"/>
            <a:ext cx="49780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body"/>
          </p:nvPr>
        </p:nvSpPr>
        <p:spPr>
          <a:xfrm>
            <a:off x="914400" y="4719240"/>
            <a:ext cx="4950000" cy="44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905040" y="762120"/>
            <a:ext cx="49780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body"/>
          </p:nvPr>
        </p:nvSpPr>
        <p:spPr>
          <a:xfrm>
            <a:off x="914400" y="4719240"/>
            <a:ext cx="4950000" cy="44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905040" y="762120"/>
            <a:ext cx="49780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4400" y="4719240"/>
            <a:ext cx="4950000" cy="44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905040" y="762120"/>
            <a:ext cx="49780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body"/>
          </p:nvPr>
        </p:nvSpPr>
        <p:spPr>
          <a:xfrm>
            <a:off x="914400" y="4719240"/>
            <a:ext cx="4950000" cy="44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905040" y="762120"/>
            <a:ext cx="49780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body"/>
          </p:nvPr>
        </p:nvSpPr>
        <p:spPr>
          <a:xfrm>
            <a:off x="914400" y="4719240"/>
            <a:ext cx="4950000" cy="44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905040" y="762120"/>
            <a:ext cx="49780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body"/>
          </p:nvPr>
        </p:nvSpPr>
        <p:spPr>
          <a:xfrm>
            <a:off x="914400" y="4719240"/>
            <a:ext cx="4950000" cy="44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905040" y="762120"/>
            <a:ext cx="49780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body"/>
          </p:nvPr>
        </p:nvSpPr>
        <p:spPr>
          <a:xfrm>
            <a:off x="914400" y="4719240"/>
            <a:ext cx="4950000" cy="44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905040" y="762120"/>
            <a:ext cx="49780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body"/>
          </p:nvPr>
        </p:nvSpPr>
        <p:spPr>
          <a:xfrm>
            <a:off x="914400" y="4719240"/>
            <a:ext cx="4950000" cy="44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905040" y="762120"/>
            <a:ext cx="49780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914400" y="4719240"/>
            <a:ext cx="4950000" cy="44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905040" y="762120"/>
            <a:ext cx="49780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body"/>
          </p:nvPr>
        </p:nvSpPr>
        <p:spPr>
          <a:xfrm>
            <a:off x="914400" y="4719240"/>
            <a:ext cx="4950000" cy="44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6628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2240" cy="20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838080" y="3941640"/>
            <a:ext cx="7842240" cy="20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6628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6800" cy="20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56760" y="1676160"/>
            <a:ext cx="3826800" cy="20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38080" y="3941640"/>
            <a:ext cx="3826800" cy="20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856760" y="3941640"/>
            <a:ext cx="3826800" cy="20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6628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2525040" cy="20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89840" y="1676160"/>
            <a:ext cx="2525040" cy="20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41600" y="1676160"/>
            <a:ext cx="2525040" cy="20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838080" y="3941640"/>
            <a:ext cx="2525040" cy="20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89840" y="3941640"/>
            <a:ext cx="2525040" cy="20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41600" y="3941640"/>
            <a:ext cx="2525040" cy="20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6628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838080" y="1676160"/>
            <a:ext cx="7842240" cy="43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6628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2240" cy="433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6628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6800" cy="433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56760" y="1676160"/>
            <a:ext cx="3826800" cy="433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6628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837720" y="380520"/>
            <a:ext cx="7766280" cy="386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1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6628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6800" cy="20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56760" y="1676160"/>
            <a:ext cx="3826800" cy="433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838080" y="3941640"/>
            <a:ext cx="3826800" cy="20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6628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838080" y="1676160"/>
            <a:ext cx="7842240" cy="43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6628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6800" cy="433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56760" y="1676160"/>
            <a:ext cx="3826800" cy="20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56760" y="3941640"/>
            <a:ext cx="3826800" cy="20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6628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6800" cy="20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56760" y="1676160"/>
            <a:ext cx="3826800" cy="20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38080" y="3941640"/>
            <a:ext cx="7842240" cy="20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6628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2240" cy="20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838080" y="3941640"/>
            <a:ext cx="7842240" cy="20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6628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6800" cy="20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56760" y="1676160"/>
            <a:ext cx="3826800" cy="20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3941640"/>
            <a:ext cx="3826800" cy="20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56760" y="3941640"/>
            <a:ext cx="3826800" cy="20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6628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2525040" cy="20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489840" y="1676160"/>
            <a:ext cx="2525040" cy="20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41600" y="1676160"/>
            <a:ext cx="2525040" cy="20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838080" y="3941640"/>
            <a:ext cx="2525040" cy="20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489840" y="3941640"/>
            <a:ext cx="2525040" cy="20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141600" y="3941640"/>
            <a:ext cx="2525040" cy="20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6628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2240" cy="433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6628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6800" cy="433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856760" y="1676160"/>
            <a:ext cx="3826800" cy="433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6628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837720" y="380520"/>
            <a:ext cx="7766280" cy="386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1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6628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6800" cy="20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56760" y="1676160"/>
            <a:ext cx="3826800" cy="433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838080" y="3941640"/>
            <a:ext cx="3826800" cy="20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6628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6800" cy="433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56760" y="1676160"/>
            <a:ext cx="3826800" cy="20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856760" y="3941640"/>
            <a:ext cx="3826800" cy="20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6628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6800" cy="20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56760" y="1676160"/>
            <a:ext cx="3826800" cy="20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3941640"/>
            <a:ext cx="7842240" cy="20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2120" y="6400800"/>
            <a:ext cx="6324480" cy="2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7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000" spc="-1" strike="noStrike">
                <a:solidFill>
                  <a:srgbClr val="6666ff"/>
                </a:solidFill>
                <a:latin typeface="Bitstream Vera Sans"/>
              </a:rPr>
              <a:t>TTÜ 2007     T.Tammet     IT sissejuhatus loeng 12      lk     </a:t>
            </a:r>
            <a:r>
              <a:rPr b="1" lang="en-GB" sz="1400" spc="-1" strike="noStrike">
                <a:solidFill>
                  <a:srgbClr val="6666ff"/>
                </a:solidFill>
                <a:latin typeface="Bitstream Vera Sans"/>
              </a:rPr>
              <a:t>- </a:t>
            </a:r>
            <a:fld id="{8F7A17CD-A14F-4447-A5B0-E431E350A8F1}" type="slidenum">
              <a:rPr b="1" lang="en-GB" sz="1400" spc="-1" strike="noStrike">
                <a:solidFill>
                  <a:srgbClr val="6666ff"/>
                </a:solidFill>
                <a:latin typeface="Bitstream Vera Sans"/>
              </a:rPr>
              <a:t>&lt;number&gt;</a:t>
            </a:fld>
            <a:r>
              <a:rPr b="1" lang="en-GB" sz="1400" spc="-1" strike="noStrike">
                <a:solidFill>
                  <a:srgbClr val="6666ff"/>
                </a:solidFill>
                <a:latin typeface="Bitstream Vera Sans"/>
              </a:rPr>
              <a:t> -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38080" y="6324480"/>
            <a:ext cx="7772400" cy="1800"/>
          </a:xfrm>
          <a:prstGeom prst="line">
            <a:avLst/>
          </a:prstGeom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6628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Click to edit the title text forma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38080" y="1676160"/>
            <a:ext cx="7842240" cy="433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-336600">
              <a:lnSpc>
                <a:spcPct val="91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1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1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1600200" indent="-228600">
              <a:lnSpc>
                <a:spcPct val="91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4" marL="2057400" indent="-228600">
              <a:lnSpc>
                <a:spcPct val="91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5" marL="2057400" indent="-228600">
              <a:lnSpc>
                <a:spcPct val="91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6" marL="2057400" indent="-228600">
              <a:lnSpc>
                <a:spcPct val="91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762120" y="6324480"/>
            <a:ext cx="41907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 u="sng">
                <a:solidFill>
                  <a:srgbClr val="6666ff"/>
                </a:solidFill>
                <a:uFillTx/>
                <a:latin typeface="Arial"/>
              </a:rPr>
              <a:t>TTÜ 1999 T.Tammet  IT sissejuhatu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838080" y="6248520"/>
            <a:ext cx="7772400" cy="1440"/>
          </a:xfrm>
          <a:prstGeom prst="line">
            <a:avLst/>
          </a:prstGeom>
          <a:ln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553080" y="62485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F33A91-31F0-4C93-A321-0A7FCF3AEEF9}" type="slidenum">
              <a:rPr b="1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659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6600" indent="-336600" algn="ctr">
              <a:lnSpc>
                <a:spcPct val="97000"/>
              </a:lnSpc>
              <a:spcBef>
                <a:spcPts val="90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 algn="ctr">
              <a:lnSpc>
                <a:spcPct val="97000"/>
              </a:lnSpc>
              <a:spcBef>
                <a:spcPts val="90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 algn="ctr">
              <a:lnSpc>
                <a:spcPct val="97000"/>
              </a:lnSpc>
              <a:spcBef>
                <a:spcPts val="90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 algn="ctr">
              <a:lnSpc>
                <a:spcPct val="97000"/>
              </a:lnSpc>
              <a:spcBef>
                <a:spcPts val="90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Bitstream Vera Sans"/>
              </a:rPr>
              <a:t>Sissejuhatus infotehnoloogiass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349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349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349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914400" y="299880"/>
            <a:ext cx="7770960" cy="309600"/>
            <a:chOff x="914400" y="299880"/>
            <a:chExt cx="7770960" cy="309600"/>
          </a:xfrm>
        </p:grpSpPr>
        <p:sp>
          <p:nvSpPr>
            <p:cNvPr id="92" name=""/>
            <p:cNvSpPr/>
            <p:nvPr/>
          </p:nvSpPr>
          <p:spPr>
            <a:xfrm>
              <a:off x="914400" y="604800"/>
              <a:ext cx="7769160" cy="1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8683560" y="299880"/>
              <a:ext cx="180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cursive objects in the world: encod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38080" y="762120"/>
            <a:ext cx="7848720" cy="58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6600" indent="-336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Recursion allows to encode a huge amount of complexity in a very efficient way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xample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6560" indent="-2793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animals are incredibly comple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6560" indent="-2793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animals are constructed from blueprints: gen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6560" indent="-2793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6560" indent="-2793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genes are very small when compared to animal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6560" indent="-2793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animals contain copies of genes in huge amoun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6560" indent="-2793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6560" indent="-2793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How is it possible?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6560" indent="-2793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Animals are constructed from gene blueprints in recursive form! Animal construction constructs many small parts similarly to large part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6560" indent="-2793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914400" y="299880"/>
            <a:ext cx="7770960" cy="309600"/>
            <a:chOff x="914400" y="299880"/>
            <a:chExt cx="7770960" cy="309600"/>
          </a:xfrm>
        </p:grpSpPr>
        <p:sp>
          <p:nvSpPr>
            <p:cNvPr id="144" name=""/>
            <p:cNvSpPr/>
            <p:nvPr/>
          </p:nvSpPr>
          <p:spPr>
            <a:xfrm>
              <a:off x="914400" y="604800"/>
              <a:ext cx="7769160" cy="1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8683560" y="299880"/>
              <a:ext cx="180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cursive functions: main princip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6600" indent="-336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mportant to check that recursion terminates. Code should contai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6560" indent="-2793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One or more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base cases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 (no recursion involved!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6560" indent="-2793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One or more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recursive cases.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Arguments of the recursive call must be “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simpler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” according to some measure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6560" indent="-2793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NB! The “simplicity” measure may be arbitrarily complex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914400" y="299880"/>
            <a:ext cx="7770960" cy="309600"/>
            <a:chOff x="914400" y="299880"/>
            <a:chExt cx="7770960" cy="309600"/>
          </a:xfrm>
        </p:grpSpPr>
        <p:sp>
          <p:nvSpPr>
            <p:cNvPr id="149" name=""/>
            <p:cNvSpPr/>
            <p:nvPr/>
          </p:nvSpPr>
          <p:spPr>
            <a:xfrm>
              <a:off x="914400" y="604800"/>
              <a:ext cx="7769160" cy="1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V="1">
              <a:off x="8683560" y="299880"/>
              <a:ext cx="180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cursive functions: main princip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6600" indent="-336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Recursion has same power as iteratio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6560" indent="-2793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Every recursive function can be written using while or for loops instea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6560" indent="-2793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Every function using while and/or for loops can be written using recursion instea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6560" indent="-2793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owever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6560" indent="-2793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some programming tasks are much easier to write using recurs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6560" indent="-2793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some programming tasks are much easier to write using iter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6560" indent="-2793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914400" y="299880"/>
            <a:ext cx="7770960" cy="309600"/>
            <a:chOff x="914400" y="299880"/>
            <a:chExt cx="7770960" cy="309600"/>
          </a:xfrm>
        </p:grpSpPr>
        <p:sp>
          <p:nvSpPr>
            <p:cNvPr id="154" name=""/>
            <p:cNvSpPr/>
            <p:nvPr/>
          </p:nvSpPr>
          <p:spPr>
            <a:xfrm>
              <a:off x="914400" y="604800"/>
              <a:ext cx="7769160" cy="1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V="1">
              <a:off x="8683560" y="299880"/>
              <a:ext cx="180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Direct and indirect recursive ca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838080" y="762120"/>
            <a:ext cx="7848720" cy="562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6600" indent="-336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 recursive subroutine is one that calls itself, either directly  or indirectly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o say that a subroutine calls itself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directly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means that its definition contains a subroutine call  statement that calls the subroutine that is being defined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6560" indent="-2793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foo calls foo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6560" indent="-2793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int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foo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(int x) { if (x&gt;0) return  1+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foo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(x-1) else return 1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o say that a subroutine calls itself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indirectly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means that it  calls a second subroutine which in turn calls the first subroutine (either directly or indirectly)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6560" indent="-2793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foo calls bar which calls foo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6560" indent="-2793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int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foo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(int x) { if (x&gt;0) return  2+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bar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(x-2) else return 1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6560" indent="-2793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int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bar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(int x) { if (x&gt;0) return  2*+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foo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(x-1) else return 1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6560" indent="-2793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914400" y="299880"/>
            <a:ext cx="7770960" cy="309600"/>
            <a:chOff x="914400" y="299880"/>
            <a:chExt cx="7770960" cy="309600"/>
          </a:xfrm>
        </p:grpSpPr>
        <p:sp>
          <p:nvSpPr>
            <p:cNvPr id="159" name=""/>
            <p:cNvSpPr/>
            <p:nvPr/>
          </p:nvSpPr>
          <p:spPr>
            <a:xfrm>
              <a:off x="914400" y="604800"/>
              <a:ext cx="7769160" cy="1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8683560" y="299880"/>
              <a:ext cx="180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838080" y="-436680"/>
            <a:ext cx="777240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ail recursion: directly convertible to iter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762120"/>
            <a:ext cx="7848720" cy="54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6600" indent="-336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ail recursion: recursive call is the last thing the function does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ail recursive functions are typically much faster when written iteratively (unless we have a very good optimising compiler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ail recursiv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6560" indent="-2793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int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foo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(int x) { if (x&gt;0) return 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foo(x-2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 else return 1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6560" indent="-2793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int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foo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(int x) { if (x&gt;0) return 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foo(x-1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6560" indent="-2793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   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else if (x&lt;0) return 1 else return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foo(x-2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Not tail recursiv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6560" indent="-2793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int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foo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(int x) { if (x&gt;0) return 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foo(x-2)+foo(x-1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 else return 1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6560" indent="-2793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int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foo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(int x) { if (x&gt;0) return 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1+foo(x-1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 else return 1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914400" y="299880"/>
            <a:ext cx="7770960" cy="309600"/>
            <a:chOff x="914400" y="299880"/>
            <a:chExt cx="7770960" cy="309600"/>
          </a:xfrm>
        </p:grpSpPr>
        <p:sp>
          <p:nvSpPr>
            <p:cNvPr id="164" name=""/>
            <p:cNvSpPr/>
            <p:nvPr/>
          </p:nvSpPr>
          <p:spPr>
            <a:xfrm>
              <a:off x="914400" y="604800"/>
              <a:ext cx="7769160" cy="1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>
              <a:off x="8683560" y="299880"/>
              <a:ext cx="180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Graphical examp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28600" y="762120"/>
            <a:ext cx="891540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6600" indent="-336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ee, modify and program graphical examples from Eck xTurtle lab 3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imple example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http://sise.ttu.ee/it/vorgutarkvara/wai2030/eckintrolabs/tmcm-java-labs/labs/xTurtleLab3.htm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A bit more complex examples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http://math.hws.edu/TMCM/java/xTurtle/index.htm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914400" y="299880"/>
            <a:ext cx="7770960" cy="309600"/>
            <a:chOff x="914400" y="299880"/>
            <a:chExt cx="7770960" cy="309600"/>
          </a:xfrm>
        </p:grpSpPr>
        <p:sp>
          <p:nvSpPr>
            <p:cNvPr id="169" name=""/>
            <p:cNvSpPr/>
            <p:nvPr/>
          </p:nvSpPr>
          <p:spPr>
            <a:xfrm>
              <a:off x="914400" y="604800"/>
              <a:ext cx="7769160" cy="1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>
              <a:off x="8683560" y="299880"/>
              <a:ext cx="180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cursive binary sear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762120"/>
            <a:ext cx="8991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6600" indent="-33660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tatic int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binarySearch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(int[] A, int loIndex, int hiIndex, int value) {                   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if (loIndex &gt; hiIndex) 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return -1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else 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int middle = (loIndex + hiIndex) / 2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if (value == A[middle])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return middle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else if (value &lt; A[middle])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‏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binarySearch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(A, loIndex, middle - 1, value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else   // value must be &gt; A[middle]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binarySearch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(A, middle + 1, hiIndex, value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  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 // end binarySearch()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‏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914400" y="299880"/>
            <a:ext cx="7770960" cy="309600"/>
            <a:chOff x="914400" y="299880"/>
            <a:chExt cx="7770960" cy="309600"/>
          </a:xfrm>
        </p:grpSpPr>
        <p:sp>
          <p:nvSpPr>
            <p:cNvPr id="174" name=""/>
            <p:cNvSpPr/>
            <p:nvPr/>
          </p:nvSpPr>
          <p:spPr>
            <a:xfrm>
              <a:off x="914400" y="604800"/>
              <a:ext cx="7769160" cy="1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8683560" y="299880"/>
              <a:ext cx="180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Example: towers of Hano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6600" indent="-336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Goal: move all the disks from Stack 0 to Stack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tack 2 can be used as a spare location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nly one disk at a time may be mov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 larger disk may never be on the smaller dis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914400" y="299880"/>
            <a:ext cx="7770960" cy="309600"/>
            <a:chOff x="914400" y="299880"/>
            <a:chExt cx="7770960" cy="309600"/>
          </a:xfrm>
        </p:grpSpPr>
        <p:sp>
          <p:nvSpPr>
            <p:cNvPr id="179" name=""/>
            <p:cNvSpPr/>
            <p:nvPr/>
          </p:nvSpPr>
          <p:spPr>
            <a:xfrm>
              <a:off x="914400" y="604800"/>
              <a:ext cx="7769160" cy="1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8683560" y="299880"/>
              <a:ext cx="180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981080" y="2362320"/>
            <a:ext cx="4286520" cy="38844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owers of Hanoi: co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28600" y="762120"/>
            <a:ext cx="891540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6600" indent="-336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void TowersOfHanoi(int disks, int from, int to, int spare) 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if (disks == 1) 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Move a disk from stack number "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+ from + " to stack number " + to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TowersOfHanoi(disks-1, from, spare, to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Move a disk from stack number "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+ from + " to stack number " + to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TowersOfHanoi(disks-1, spare, to, from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914400" y="299880"/>
            <a:ext cx="7770960" cy="309600"/>
            <a:chOff x="914400" y="299880"/>
            <a:chExt cx="7770960" cy="309600"/>
          </a:xfrm>
        </p:grpSpPr>
        <p:sp>
          <p:nvSpPr>
            <p:cNvPr id="185" name=""/>
            <p:cNvSpPr/>
            <p:nvPr/>
          </p:nvSpPr>
          <p:spPr>
            <a:xfrm>
              <a:off x="914400" y="604800"/>
              <a:ext cx="7769160" cy="1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8683560" y="299880"/>
              <a:ext cx="180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Deklaratiivne vs imperatiivn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080" y="990720"/>
            <a:ext cx="7848720" cy="58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rogrammeerimiskeeli ja -meetodeid saab klassifitseerida mitmel moel. Selle loengu kontekstis sobib jaotada programmeerimiskeeled kõigepealt kahte gruppi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mperatiivsed keeled] sobivad samm-sammult, kindlas  järjekorras täidetavate algoritmide esitamiseks. Programmid  kujutavad endast arvutile antavate käskude jada. Tuntumad imperatiivsed keeled on C, Basic, Pascal, Java,  objektorienteeritud keeled ja  assemblerkeeled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6560" indent="-279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Imperatiivsete keelte peamiseks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eeliseks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 on arvuti tegevuse täpse kontrollimise ja suunamise võimaldamine, mis enamasti tagab maksimaalse töökiiruse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6560" indent="-279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Miinusteks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on programmeerimise suur töömahukus - lahenduskäigu kõik detailid tuleb süsteemile esitada - ning suured raskused programmideanalüüsimisel, näiteks optimeerimise, verifitseerimise või paralleliseerimise tarvis.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838080" y="376200"/>
            <a:ext cx="7769520" cy="309600"/>
            <a:chOff x="838080" y="376200"/>
            <a:chExt cx="7769520" cy="309600"/>
          </a:xfrm>
        </p:grpSpPr>
        <p:sp>
          <p:nvSpPr>
            <p:cNvPr id="190" name=""/>
            <p:cNvSpPr/>
            <p:nvPr/>
          </p:nvSpPr>
          <p:spPr>
            <a:xfrm>
              <a:off x="838080" y="681120"/>
              <a:ext cx="77677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8605800" y="376200"/>
              <a:ext cx="180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Loengu ülevaa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6600" indent="-3366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Rekursioon: üldpõhimõtt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mperatiivne vs deklaratiivne programmeerimi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Funktsionaalne programmeerimi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oogiline programmeerimi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Bitstream Vera Sans"/>
              </a:rPr>
              <a:t>konkreetse programmeerimiskee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838080" y="376200"/>
            <a:ext cx="7769520" cy="309600"/>
            <a:chOff x="838080" y="376200"/>
            <a:chExt cx="7769520" cy="309600"/>
          </a:xfrm>
        </p:grpSpPr>
        <p:sp>
          <p:nvSpPr>
            <p:cNvPr id="97" name=""/>
            <p:cNvSpPr/>
            <p:nvPr/>
          </p:nvSpPr>
          <p:spPr>
            <a:xfrm>
              <a:off x="838080" y="681120"/>
              <a:ext cx="77677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V="1">
              <a:off x="8605800" y="376200"/>
              <a:ext cx="180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Deklaratiivsed vs imperatiivsed keel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Deklaratiivsed keeled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sobivad algoritmi esitamiseks  käskude jadast abstraktsemal viisil. Programmeerija ei pruugi alati kõiki algoritmi detaile kirja panna, vaid võib esitada otsitava lahenduse  kirjelduse , ning juba programmi täitmise käigus otsustab süsteem automaatselt, mis viisil täpselt seda lahendust otsida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Deklaratiivseteks keelteks võib lugeda loogilise programmeerimise keeled (näiteks Prolog) ja mitmed funktsionaalsed keeled (näiteks Haskell). Teoorias kasutatav  lambda-arvutus  on puhtalt funktsionaalse deklaratiivse keele näid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838080" y="376200"/>
            <a:ext cx="7769520" cy="309600"/>
            <a:chOff x="838080" y="376200"/>
            <a:chExt cx="7769520" cy="309600"/>
          </a:xfrm>
        </p:grpSpPr>
        <p:sp>
          <p:nvSpPr>
            <p:cNvPr id="195" name=""/>
            <p:cNvSpPr/>
            <p:nvPr/>
          </p:nvSpPr>
          <p:spPr>
            <a:xfrm>
              <a:off x="838080" y="681120"/>
              <a:ext cx="77677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8605800" y="376200"/>
              <a:ext cx="180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lussid ja miinu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6600" indent="-3366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Deklaratiivsed keeled võimaldavad enamikku programme kiiremini ja mugavamalt kirjutada, kui imperatiivsed keeled - programmeerija ei pea kõigi detailide eest hoolt kandma. Tunduvalt lihtsam on ka programmide analüüs, näiteks programmi automaatsel kohandamisel paralleelarvutile, kus programmi täitmise juures töötab samaaegselt hulk protsessorei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eamiseks miinuseks on programmide väiksem töökiirus - deklaratiivne programm ei pruugi küll alati aeglasem olla, kui imperatiivne, kuid on seda harilikult siiski. Põhjuseks on siin keele automaattranslaatori väiksem intelligentsus kogenud  programmeerijaga võrreldes.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838080" y="376200"/>
            <a:ext cx="7769520" cy="309600"/>
            <a:chOff x="838080" y="376200"/>
            <a:chExt cx="7769520" cy="309600"/>
          </a:xfrm>
        </p:grpSpPr>
        <p:sp>
          <p:nvSpPr>
            <p:cNvPr id="200" name=""/>
            <p:cNvSpPr/>
            <p:nvPr/>
          </p:nvSpPr>
          <p:spPr>
            <a:xfrm>
              <a:off x="838080" y="681120"/>
              <a:ext cx="77677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V="1">
              <a:off x="8605800" y="376200"/>
              <a:ext cx="180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Funktsionaalsed ja loogilised keel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Deklaratiivsed keeled jaotataks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6560" indent="-279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Funktsionaalse programmeerimise keelteks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  (näide: Haskell), kus lahendus kirjeldatakse funktsioonide kogu abil - ka viimast saab tegelikult käsitleda kui teatud tüüpi loogikasüsteemi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6560" indent="-279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Loogilise programmeerimise keelteks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  (näide: Prolog), kus otsitavat lahendust kirjeldatakse loogika keel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6560" indent="-279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838080" y="376200"/>
            <a:ext cx="7769520" cy="309600"/>
            <a:chOff x="838080" y="376200"/>
            <a:chExt cx="7769520" cy="309600"/>
          </a:xfrm>
        </p:grpSpPr>
        <p:sp>
          <p:nvSpPr>
            <p:cNvPr id="205" name=""/>
            <p:cNvSpPr/>
            <p:nvPr/>
          </p:nvSpPr>
          <p:spPr>
            <a:xfrm>
              <a:off x="838080" y="681120"/>
              <a:ext cx="77677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V="1">
              <a:off x="8605800" y="376200"/>
              <a:ext cx="180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Funktsionaalne programmeerim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Funktsionaalsete keelte idee on programmide kirjutamine (matemaatiliste) funktsioonide defineerimise teel, määramata seejuures täpselt ära, mis strateegia järgi funktsiooni resultaati tuleb arvutada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Funktsioonile võib anda argumendiks teisi funktsioone ja funktsiooni arvutamise resultaadiks võib samuti olla funktsioo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NB!  Funktsionaalne programmeerimine on ajalooliselt esimene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deklaratiivse programmeerimise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viis, ning enamik kaasaegseid programmeerimiskeeli -- C, Pascal, Ada jne --  on funktsionaalse programmeerimise meetoditest mõjustatu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838080" y="376200"/>
            <a:ext cx="7769520" cy="309600"/>
            <a:chOff x="838080" y="376200"/>
            <a:chExt cx="7769520" cy="309600"/>
          </a:xfrm>
        </p:grpSpPr>
        <p:sp>
          <p:nvSpPr>
            <p:cNvPr id="210" name=""/>
            <p:cNvSpPr/>
            <p:nvPr/>
          </p:nvSpPr>
          <p:spPr>
            <a:xfrm>
              <a:off x="838080" y="681120"/>
              <a:ext cx="77677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V="1">
              <a:off x="8605800" y="376200"/>
              <a:ext cx="180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Näide: faktoria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38080" y="990720"/>
            <a:ext cx="7848720" cy="55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Defineerime näiteks faktoriaali funktsiooni  fakt  ja funktsiooni  map , mis rakendab oma esimest, funktsionaalset argumenti teiseks argumendiks oleva loendi igale elemendile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oend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[h|t]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esitatakse sisemiselt kui harilik term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.(h,t)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fakt(x,0) = 1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fakt(x,n) = x*fakt(x-1)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(ehk: fakt(x) = if x=0 then 1 else x*fakt(x-1))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ap(f,[]) = []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ap(f,[h|t]) = [f(h) | map(f,t)]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valdise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ap(fakt,[3,5,0]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väärtuseks o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[6,120,1]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838080" y="376200"/>
            <a:ext cx="7769520" cy="309600"/>
            <a:chOff x="838080" y="376200"/>
            <a:chExt cx="7769520" cy="309600"/>
          </a:xfrm>
        </p:grpSpPr>
        <p:sp>
          <p:nvSpPr>
            <p:cNvPr id="215" name=""/>
            <p:cNvSpPr/>
            <p:nvPr/>
          </p:nvSpPr>
          <p:spPr>
            <a:xfrm>
              <a:off x="838080" y="681120"/>
              <a:ext cx="77677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8605800" y="376200"/>
              <a:ext cx="180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valdise väärtustamine (reduktsioon)</a:t>
            </a: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38080" y="990720"/>
            <a:ext cx="7848720" cy="50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eitakse funktsiooni defineeriv "sobiv" võrdu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sendatakse avaldis võrduse parema pooleg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Formaalsete parameetrid asendatakse tegelike argumentideg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ogu protsessi korratakse kuni rohkem ei sa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fact 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==&gt; 3 * fact (3 - 1)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==&gt; 3 * fact 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==&gt; 3 * (2 * fact (2 - 1))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==&gt; 3 * (2 * fact 1)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==&gt; 3 * (2 * (1 * fact (1 - 1)))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==&gt; 3 * (2 * (1 * fact 0))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==&gt; 3 * (2 * (1 * 1))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==&gt; 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838080" y="376200"/>
            <a:ext cx="7769520" cy="309600"/>
            <a:chOff x="838080" y="376200"/>
            <a:chExt cx="7769520" cy="309600"/>
          </a:xfrm>
        </p:grpSpPr>
        <p:sp>
          <p:nvSpPr>
            <p:cNvPr id="220" name=""/>
            <p:cNvSpPr/>
            <p:nvPr/>
          </p:nvSpPr>
          <p:spPr>
            <a:xfrm>
              <a:off x="838080" y="681120"/>
              <a:ext cx="77677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8605800" y="376200"/>
              <a:ext cx="180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uhtad ja ebapuhtad keel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38080" y="990720"/>
            <a:ext cx="7848720" cy="508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Funktsionaalseid keeli saab jämedalt jagada kahte liiki: puhtad ja ebapuhta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uhtas keeles -- Haskell, Hope, Miranda, FP -- ei ole programmeerijal peale funktsioonide defineerimise ja sisseehitatud baasfunktsioonide (aritmeetika, loendid jms) mingeid lisavahendeid -- kõik kõrvalefektid on keelatud.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uhas funktsionaalne keel ei luba muutujatele väärtusi omistada. Ainus efekt, mis funktsiooni rakendamine argumentidele annab, on resultaadi leidmine.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bapuhtad funktsionaalsed keeled - ML, Lisp, Scheme -  kombineerivad puhaste funktsionaalsete keelte mehhanisme imperatiivsete mehhanismideg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838080" y="376200"/>
            <a:ext cx="7769520" cy="309600"/>
            <a:chOff x="838080" y="376200"/>
            <a:chExt cx="7769520" cy="309600"/>
          </a:xfrm>
        </p:grpSpPr>
        <p:sp>
          <p:nvSpPr>
            <p:cNvPr id="225" name=""/>
            <p:cNvSpPr/>
            <p:nvPr/>
          </p:nvSpPr>
          <p:spPr>
            <a:xfrm>
              <a:off x="838080" y="681120"/>
              <a:ext cx="77677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V="1">
              <a:off x="8605800" y="376200"/>
              <a:ext cx="180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lus: lambda-arvut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38080" y="990720"/>
            <a:ext cx="7848720" cy="53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ambda-arvutuse keel on Alonzo Churchi poolt 1930. aastatel leiutatud lihtne ja universaalne meetod  funktsioonide kirjapanekuks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ambda-arvutuse teooria tegeleb arvutatavuse ja arvutatavate funktsioonide uurimisega, kasutades selleks lambda-arvutuse keelt kui universaalset programmeerimiskeel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Churchi tees väidab, et iga algoritmi saab lambda-arvutuse keeles kirja panna. On võimalik näidata, et lambda-arvutus, nagu ka Prolog, C ja Basic on üks paljudest universaalsetest programmeerimiskeeltest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onkreetselt on lambda-arvutuse keel ja teooria funktsionaalsete programmeerimiskeelte alusek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838080" y="376200"/>
            <a:ext cx="7769520" cy="309600"/>
            <a:chOff x="838080" y="376200"/>
            <a:chExt cx="7769520" cy="309600"/>
          </a:xfrm>
        </p:grpSpPr>
        <p:sp>
          <p:nvSpPr>
            <p:cNvPr id="230" name=""/>
            <p:cNvSpPr/>
            <p:nvPr/>
          </p:nvSpPr>
          <p:spPr>
            <a:xfrm>
              <a:off x="838080" y="681120"/>
              <a:ext cx="77677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V="1">
              <a:off x="8605800" y="376200"/>
              <a:ext cx="180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nnonüümsed funktsioon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838080" y="990720"/>
            <a:ext cx="7848720" cy="505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üks harilikumaid praktikas kasutatavaid funktsioonide kirjapaneku viise on sellin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f(x) = x*x +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Funktsioon esitatakse, andes talle samas  nime, konkreetses näites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. Lambda-arvutuses esitatakse funktsioone, vastupidi, kui anonüümseid, nimeta terme. äsjatoodud näide on lambda-kirjaviis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x. x*x +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ambda-sümboli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järele kirjutatakse funktsiooni formaalseks parameetriks olev muutuja, seejärel punkt ja funktsiooni keha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838080" y="376200"/>
            <a:ext cx="7769520" cy="309600"/>
            <a:chOff x="838080" y="376200"/>
            <a:chExt cx="7769520" cy="309600"/>
          </a:xfrm>
        </p:grpSpPr>
        <p:sp>
          <p:nvSpPr>
            <p:cNvPr id="235" name=""/>
            <p:cNvSpPr/>
            <p:nvPr/>
          </p:nvSpPr>
          <p:spPr>
            <a:xfrm>
              <a:off x="838080" y="681120"/>
              <a:ext cx="77677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V="1">
              <a:off x="8605800" y="376200"/>
              <a:ext cx="180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Lambda-arvut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itme formaalse parameetriga funktsioone esitatakse mitme üksteise sees oleva üheparameetrilise funktsioonina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x.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y. x*x+y*y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838080" y="376200"/>
            <a:ext cx="7769520" cy="309600"/>
            <a:chOff x="838080" y="376200"/>
            <a:chExt cx="7769520" cy="309600"/>
          </a:xfrm>
        </p:grpSpPr>
        <p:sp>
          <p:nvSpPr>
            <p:cNvPr id="240" name=""/>
            <p:cNvSpPr/>
            <p:nvPr/>
          </p:nvSpPr>
          <p:spPr>
            <a:xfrm>
              <a:off x="838080" y="681120"/>
              <a:ext cx="77677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V="1">
              <a:off x="8605800" y="376200"/>
              <a:ext cx="180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cur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38080" y="762120"/>
            <a:ext cx="7848720" cy="60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6600" indent="-336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 subroutine is said to be recursive if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it calls itself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, either directly or indirectly. That is, the subroutine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is used in its own definition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6560" indent="-2793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Bad kind - infinite loop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a car is a car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gothic"/>
              </a:rPr>
              <a:t>int fact(int x)  {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gothic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gothic"/>
              </a:rPr>
              <a:t>return fact(x)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gothic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gothic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gothic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Recursion can often be used to solve complex problems by reducing them to simpler problems  of the same typ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6560" indent="-2793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Good kind – loop is (hopefully) terminated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An "ancestor" is either a parent or an ancestor of a parent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gothic"/>
              </a:rPr>
              <a:t>int fact (int x)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6560" indent="-279360">
              <a:lnSpc>
                <a:spcPct val="90000"/>
              </a:lnSpc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gothic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gothic"/>
              </a:rPr>
              <a:t>if (x &lt;= 0) return 1;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6560" indent="-279360">
              <a:lnSpc>
                <a:spcPct val="90000"/>
              </a:lnSpc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gothic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gothic"/>
              </a:rPr>
              <a:t>else return x * fact(x-1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6560" indent="-279360">
              <a:lnSpc>
                <a:spcPct val="90000"/>
              </a:lnSpc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gothic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gothic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914400" y="299880"/>
            <a:ext cx="7770960" cy="309600"/>
            <a:chOff x="914400" y="299880"/>
            <a:chExt cx="7770960" cy="309600"/>
          </a:xfrm>
        </p:grpSpPr>
        <p:sp>
          <p:nvSpPr>
            <p:cNvPr id="102" name=""/>
            <p:cNvSpPr/>
            <p:nvPr/>
          </p:nvSpPr>
          <p:spPr>
            <a:xfrm>
              <a:off x="914400" y="604800"/>
              <a:ext cx="7769160" cy="1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>
              <a:off x="8683560" y="299880"/>
              <a:ext cx="180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Näi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838080" y="990720"/>
            <a:ext cx="7848720" cy="60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Funktsiooni rakendamiseks kirjutatakse traditsioonilise $f(3)$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semel (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x. x*x+1) 3 -- viimase väärtuseks on 1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naloogiliselt annab ((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x.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y. x*x+y*y) 2) 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äärtuseks 13. Lambda-termi rakendamisel asendatak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eotud muutuja termi kehas termile antud argumendiga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((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f. f(f 2)) (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x. x*x+1))         anna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(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x. x*x+1) ((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x. x*x+1) 2) anna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(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x. x*x+1) (2*2+1)             anna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(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x. x*x+1) 5                     anna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5*5+1                                annab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26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Resultaat seejuures asenduste tegemise järjekorrast ei sõltu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838080" y="376200"/>
            <a:ext cx="7769520" cy="309600"/>
            <a:chOff x="838080" y="376200"/>
            <a:chExt cx="7769520" cy="309600"/>
          </a:xfrm>
        </p:grpSpPr>
        <p:sp>
          <p:nvSpPr>
            <p:cNvPr id="245" name=""/>
            <p:cNvSpPr/>
            <p:nvPr/>
          </p:nvSpPr>
          <p:spPr>
            <a:xfrm>
              <a:off x="838080" y="681120"/>
              <a:ext cx="77677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8605800" y="376200"/>
              <a:ext cx="180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rvud ja muu puhtas lambda-arvutu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838080" y="990720"/>
            <a:ext cx="7848720" cy="60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Churchi leiutatud kodeerimin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0 :  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f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x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.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x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 :  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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f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x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.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f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x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2 :  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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f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x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.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f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(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f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x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3 :  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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f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x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.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f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(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f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(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f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x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)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ritmeetika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3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UCC : 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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n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f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x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.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f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(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n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f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x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3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LUS :  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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m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n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f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x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.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n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f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(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m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f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x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3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LUS can be thought of as a function taking two natural numbers as arguments and returning a natural number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3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ULT : 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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m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n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.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m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(PLUS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n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) 0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838080" y="376200"/>
            <a:ext cx="7769520" cy="309600"/>
            <a:chOff x="838080" y="376200"/>
            <a:chExt cx="7769520" cy="309600"/>
          </a:xfrm>
        </p:grpSpPr>
        <p:sp>
          <p:nvSpPr>
            <p:cNvPr id="250" name=""/>
            <p:cNvSpPr/>
            <p:nvPr/>
          </p:nvSpPr>
          <p:spPr>
            <a:xfrm>
              <a:off x="838080" y="681120"/>
              <a:ext cx="77677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8605800" y="376200"/>
              <a:ext cx="180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ombinatoorne loogik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38080" y="990720"/>
            <a:ext cx="7848720" cy="60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eel minimaalsem, kui lambda-arvutu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3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(I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x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) =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x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3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((K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x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)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y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) =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x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3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(S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x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y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z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) = (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x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z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(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y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z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)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3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3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Given S and K, I itself is unnecessary, since it can be built from the other two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3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3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 = S K K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3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3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((S K K)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x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) = (S K K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x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) = (K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x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(K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x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)) =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3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3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ga lambda-termi saab lihtsalt teisendada kombinaatoritek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838080" y="376200"/>
            <a:ext cx="7769520" cy="309600"/>
            <a:chOff x="838080" y="376200"/>
            <a:chExt cx="7769520" cy="309600"/>
          </a:xfrm>
        </p:grpSpPr>
        <p:sp>
          <p:nvSpPr>
            <p:cNvPr id="255" name=""/>
            <p:cNvSpPr/>
            <p:nvPr/>
          </p:nvSpPr>
          <p:spPr>
            <a:xfrm>
              <a:off x="838080" y="681120"/>
              <a:ext cx="77677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>
              <a:off x="8605800" y="376200"/>
              <a:ext cx="180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Ebapuhta keele näide: Sche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38080" y="990720"/>
            <a:ext cx="7848720" cy="50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6600" indent="-3366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(define (good? x)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(if (&gt; 10 x) #t #f) )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(define (every? fn lst)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(if (pair? lst)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(if (fn (car lst)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(every? fn (cdr lst)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#f)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#t))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(every? good? ‘(10 40 50 2 100))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Bitstream Vera Sans"/>
              </a:rPr>
              <a:t>((eve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838080" y="376200"/>
            <a:ext cx="7769520" cy="309600"/>
            <a:chOff x="838080" y="376200"/>
            <a:chExt cx="7769520" cy="309600"/>
          </a:xfrm>
        </p:grpSpPr>
        <p:sp>
          <p:nvSpPr>
            <p:cNvPr id="260" name=""/>
            <p:cNvSpPr/>
            <p:nvPr/>
          </p:nvSpPr>
          <p:spPr>
            <a:xfrm>
              <a:off x="838080" y="681120"/>
              <a:ext cx="77677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>
              <a:off x="8605800" y="376200"/>
              <a:ext cx="180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Loogiline programmeerimine: Prolo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rolog on esimene -- ja siiani väga populaarne -- loogilise programmeerimise keel. Prolog-ile lisaks on välja töötatud mitmeid uuemaid loogilise programmeerimise keeli ja süsteeme, ning nende arendamine on ulatuslik ja levinud uurimisteema.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rolog-i põhi-idee on nõuda otsitava lahenduse kirjeldamist esimest järku predikaatarvutuse keeles, kusjuures Prolog-i süsteem sisaldab teatud tüüpi automaatset teoreemitõetajat, mis on võimeline lahendust automaatselt otsima ja tuletam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ellegipoolest ei ole Prolog siiski automaatse teoreemitõestamise süsteem: viimast realiseeriv mehhanism on Prolog-is väga piiratud, spetsiifiline ja loogiliselt mittetäielik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838080" y="376200"/>
            <a:ext cx="7769520" cy="309600"/>
            <a:chOff x="838080" y="376200"/>
            <a:chExt cx="7769520" cy="309600"/>
          </a:xfrm>
        </p:grpSpPr>
        <p:sp>
          <p:nvSpPr>
            <p:cNvPr id="265" name=""/>
            <p:cNvSpPr/>
            <p:nvPr/>
          </p:nvSpPr>
          <p:spPr>
            <a:xfrm>
              <a:off x="838080" y="681120"/>
              <a:ext cx="77677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8605800" y="376200"/>
              <a:ext cx="180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Näi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6600" indent="-3366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aatleme esimese näitena sugulussidemete andmebaasi, konkreetselt niisugust Prolog-i programmi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isa(jaan,peeter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isa(jaan,martin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isa(martin,veiko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isa(riivo,leo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ema(leena,leo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vanaisa(X,Z) :- isa(X,Y), isa(Y,Z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vanaisa(X,Z) :- isa(X,Y), ema(Y,Z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838080" y="376200"/>
            <a:ext cx="7769520" cy="309600"/>
            <a:chOff x="838080" y="376200"/>
            <a:chExt cx="7769520" cy="309600"/>
          </a:xfrm>
        </p:grpSpPr>
        <p:sp>
          <p:nvSpPr>
            <p:cNvPr id="270" name=""/>
            <p:cNvSpPr/>
            <p:nvPr/>
          </p:nvSpPr>
          <p:spPr>
            <a:xfrm>
              <a:off x="838080" y="681120"/>
              <a:ext cx="77677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>
              <a:off x="8605800" y="376200"/>
              <a:ext cx="180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äringu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838080" y="990720"/>
            <a:ext cx="7848720" cy="57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äringule, kas  isa(riivo,martin)  on antud andmebaasist tuletatav, vastab otsingumootor eitaval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?- isa(riivo,martin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n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ahendust otsib Prologi mootor järgmiselt: kõik andmebaasis olevad laused vaadatakse järjest läbi ning püütakse iga lause esimest literaali päringu-literaaliga unifitseerida. Kui see ei õnnestu, vastatakse päringule eitaval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äringule, kas  isa(riivo,leo)  on antud  andmebaasist tuletatav, vastab otsingumootor jaatavalt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?- isa(riivo,leo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y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838080" y="376200"/>
            <a:ext cx="7769520" cy="309600"/>
            <a:chOff x="838080" y="376200"/>
            <a:chExt cx="7769520" cy="309600"/>
          </a:xfrm>
        </p:grpSpPr>
        <p:sp>
          <p:nvSpPr>
            <p:cNvPr id="275" name=""/>
            <p:cNvSpPr/>
            <p:nvPr/>
          </p:nvSpPr>
          <p:spPr>
            <a:xfrm>
              <a:off x="838080" y="681120"/>
              <a:ext cx="77677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8605800" y="376200"/>
              <a:ext cx="180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äringu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838080" y="990720"/>
            <a:ext cx="7848720" cy="53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äringud võivad sisaldada muutujaid: sellisel juhul leiab Prologi mootor  lahenduse , st. muutuja asemele substitueeritava termi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?- isa(jaan,X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X=peet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i me ei ole rahul esimese leitud lahendusega, võime otsingumootorit instrueerida uusi lahendusi otsima, st püüdma unifitseerida päringut järgmiste andmebaasis olevate lauseteg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?- isa(jaan,X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X=peeter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X=martin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n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838080" y="376200"/>
            <a:ext cx="7769520" cy="309600"/>
            <a:chOff x="838080" y="376200"/>
            <a:chExt cx="7769520" cy="309600"/>
          </a:xfrm>
        </p:grpSpPr>
        <p:sp>
          <p:nvSpPr>
            <p:cNvPr id="280" name=""/>
            <p:cNvSpPr/>
            <p:nvPr/>
          </p:nvSpPr>
          <p:spPr>
            <a:xfrm>
              <a:off x="838080" y="681120"/>
              <a:ext cx="77677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V="1">
              <a:off x="8605800" y="376200"/>
              <a:ext cx="180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eglite kasutam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idas reageerib otsingumootor päringule, kas Jaan on kellegi vanaisa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?- vanaisa(jaan,X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X=veik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838080" y="376200"/>
            <a:ext cx="7769520" cy="309600"/>
            <a:chOff x="838080" y="376200"/>
            <a:chExt cx="7769520" cy="309600"/>
          </a:xfrm>
        </p:grpSpPr>
        <p:sp>
          <p:nvSpPr>
            <p:cNvPr id="285" name=""/>
            <p:cNvSpPr/>
            <p:nvPr/>
          </p:nvSpPr>
          <p:spPr>
            <a:xfrm>
              <a:off x="838080" y="681120"/>
              <a:ext cx="77677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8605800" y="376200"/>
              <a:ext cx="180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Loendi element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irjutame programmi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ember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, mis kontrollib, kas esimene argument kuulub teiseks argumendiks olevasse loendiss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ember(X,[X|Z]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ember(X,[Y|Z]) :- member(X,Z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?- member(10,[20,30,10,40]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Y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838080" y="376200"/>
            <a:ext cx="7769520" cy="309600"/>
            <a:chOff x="838080" y="376200"/>
            <a:chExt cx="7769520" cy="309600"/>
          </a:xfrm>
        </p:grpSpPr>
        <p:sp>
          <p:nvSpPr>
            <p:cNvPr id="290" name=""/>
            <p:cNvSpPr/>
            <p:nvPr/>
          </p:nvSpPr>
          <p:spPr>
            <a:xfrm>
              <a:off x="838080" y="681120"/>
              <a:ext cx="77677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8605800" y="376200"/>
              <a:ext cx="180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Factorial: tr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6600" indent="-3366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Fact(3)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==&gt; 3 * fact(3 - 1)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==&gt; 3 * fact(2)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==&gt; 3 * (2 * fact(2 - 1))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==&gt; 3 * (2 * fact(1))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==&gt; 3 * (2 * (1 * fact(1 - 1)))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==&gt; 3 * (2 * (1 * fact(0)))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==&gt; 3 * (2 * (1 * 1))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==&gt; 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914400" y="299880"/>
            <a:ext cx="7770960" cy="309600"/>
            <a:chOff x="914400" y="299880"/>
            <a:chExt cx="7770960" cy="309600"/>
          </a:xfrm>
        </p:grpSpPr>
        <p:sp>
          <p:nvSpPr>
            <p:cNvPr id="107" name=""/>
            <p:cNvSpPr/>
            <p:nvPr/>
          </p:nvSpPr>
          <p:spPr>
            <a:xfrm>
              <a:off x="914400" y="604800"/>
              <a:ext cx="7769160" cy="1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8683560" y="299880"/>
              <a:ext cx="180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Liida loend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838080" y="990720"/>
            <a:ext cx="7848720" cy="610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6600" indent="-3366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append([],Z,Z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append([X|Y],Z,[X|R]) :- append(Y,Z,R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?- append([a,b],[c,d],L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L=[a,b,c,d]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n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?- append(X,Y,[a,b,c,d]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X=[], Y=[a,b,c,d]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X=[a], Y=[b,c,d]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X=[a,b], Y=[c,d]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X=[a,b,c], Y=[d]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X=[a,b,c,d], Y=[]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n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838080" y="376200"/>
            <a:ext cx="7769520" cy="309600"/>
            <a:chOff x="838080" y="376200"/>
            <a:chExt cx="7769520" cy="309600"/>
          </a:xfrm>
        </p:grpSpPr>
        <p:sp>
          <p:nvSpPr>
            <p:cNvPr id="295" name=""/>
            <p:cNvSpPr/>
            <p:nvPr/>
          </p:nvSpPr>
          <p:spPr>
            <a:xfrm>
              <a:off x="838080" y="681120"/>
              <a:ext cx="77677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V="1">
              <a:off x="8605800" y="376200"/>
              <a:ext cx="180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ermutatsioon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838080" y="9907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6600" indent="-3366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erm(L, [H|T]) :- app(V,[H|U], L), app(V,U,W),      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erm(W,T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erm([],[]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?- perm([a,b,c],X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X=[a,b,c]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X=[a,c,b]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X=[b,a,c]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X=[b,c,a]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X=[c,a,b]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X=[c,b,a]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n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838080" y="376200"/>
            <a:ext cx="7769520" cy="309600"/>
            <a:chOff x="838080" y="376200"/>
            <a:chExt cx="7769520" cy="309600"/>
          </a:xfrm>
        </p:grpSpPr>
        <p:sp>
          <p:nvSpPr>
            <p:cNvPr id="300" name=""/>
            <p:cNvSpPr/>
            <p:nvPr/>
          </p:nvSpPr>
          <p:spPr>
            <a:xfrm>
              <a:off x="838080" y="681120"/>
              <a:ext cx="77677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8605800" y="376200"/>
              <a:ext cx="180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838080" y="-436680"/>
            <a:ext cx="777240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cursive objects in the world. Fractal objec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6600" indent="-336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 huge amount of of things in the real world has a recursive natur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For example, coastline of a sea has a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fractal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nature – fractals are  recursive: their structure is repeated over and over in small detail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ierpinski triangl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6560" indent="-2793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914400" y="299880"/>
            <a:ext cx="7770960" cy="309600"/>
            <a:chOff x="914400" y="299880"/>
            <a:chExt cx="7770960" cy="309600"/>
          </a:xfrm>
        </p:grpSpPr>
        <p:sp>
          <p:nvSpPr>
            <p:cNvPr id="112" name=""/>
            <p:cNvSpPr/>
            <p:nvPr/>
          </p:nvSpPr>
          <p:spPr>
            <a:xfrm>
              <a:off x="914400" y="604800"/>
              <a:ext cx="7769160" cy="1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8683560" y="299880"/>
              <a:ext cx="180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762120" y="3429000"/>
            <a:ext cx="2377800" cy="25830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3352680" y="3429000"/>
            <a:ext cx="2378160" cy="25830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5943600" y="3429000"/>
            <a:ext cx="2378160" cy="2583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Fracta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6600" indent="-336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“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vening over San Francisco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914400" y="299880"/>
            <a:ext cx="7770960" cy="309600"/>
            <a:chOff x="914400" y="299880"/>
            <a:chExt cx="7770960" cy="309600"/>
          </a:xfrm>
        </p:grpSpPr>
        <p:sp>
          <p:nvSpPr>
            <p:cNvPr id="120" name=""/>
            <p:cNvSpPr/>
            <p:nvPr/>
          </p:nvSpPr>
          <p:spPr>
            <a:xfrm>
              <a:off x="914400" y="604800"/>
              <a:ext cx="7769160" cy="1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>
              <a:off x="8683560" y="299880"/>
              <a:ext cx="180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914400" y="1828800"/>
            <a:ext cx="7696080" cy="4329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Fracta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6600" indent="-336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“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Nature uses as little as possible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914400" y="299880"/>
            <a:ext cx="7770960" cy="309600"/>
            <a:chOff x="914400" y="299880"/>
            <a:chExt cx="7770960" cy="309600"/>
          </a:xfrm>
        </p:grpSpPr>
        <p:sp>
          <p:nvSpPr>
            <p:cNvPr id="126" name=""/>
            <p:cNvSpPr/>
            <p:nvPr/>
          </p:nvSpPr>
          <p:spPr>
            <a:xfrm>
              <a:off x="914400" y="604800"/>
              <a:ext cx="7769160" cy="1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8683560" y="299880"/>
              <a:ext cx="180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371600" y="1295280"/>
            <a:ext cx="6400800" cy="48006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Fracta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6600" indent="-336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.C. Escher: smaller and small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914400" y="299880"/>
            <a:ext cx="7770960" cy="309600"/>
            <a:chOff x="914400" y="299880"/>
            <a:chExt cx="7770960" cy="309600"/>
          </a:xfrm>
        </p:grpSpPr>
        <p:sp>
          <p:nvSpPr>
            <p:cNvPr id="132" name=""/>
            <p:cNvSpPr/>
            <p:nvPr/>
          </p:nvSpPr>
          <p:spPr>
            <a:xfrm>
              <a:off x="914400" y="604800"/>
              <a:ext cx="7769160" cy="1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>
              <a:off x="8683560" y="299880"/>
              <a:ext cx="180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057400" y="1371600"/>
            <a:ext cx="4952880" cy="49197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Fractal/recursive objects in the real worl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6600" indent="-336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.C. Escher: Three world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914400" y="299880"/>
            <a:ext cx="7770960" cy="309600"/>
            <a:chOff x="914400" y="299880"/>
            <a:chExt cx="7770960" cy="309600"/>
          </a:xfrm>
        </p:grpSpPr>
        <p:sp>
          <p:nvSpPr>
            <p:cNvPr id="138" name=""/>
            <p:cNvSpPr/>
            <p:nvPr/>
          </p:nvSpPr>
          <p:spPr>
            <a:xfrm>
              <a:off x="914400" y="604800"/>
              <a:ext cx="7769160" cy="1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V="1">
              <a:off x="8683560" y="299880"/>
              <a:ext cx="180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648320" y="838080"/>
            <a:ext cx="2995560" cy="53341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anel Tammet</cp:lastModifiedBy>
  <cp:revision>0</cp:revision>
  <dc:subject/>
  <dc:title> </dc:title>
</cp:coreProperties>
</file>